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776-3823-446E-8840-CFADAEEF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C53-11E2-4DC5-A2EF-71342E29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26E-E5A2-43DE-B683-D8749703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89B-04FE-4579-A27E-58AD6942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A57-09F4-43C2-9B1C-8D440FCE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F7C-43FA-4EF2-9495-3831149D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7CA-D54D-4823-A912-156DE7B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150-6289-48C2-9313-63752D9D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6AF-0FA4-423B-B1CC-F74FAAF5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FD4-D5D3-4863-A03A-4C458FB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F00-1AB1-4146-96AD-6296631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B75-52B0-4D49-BE7B-CE075C3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92C-9F36-4366-987E-897F78EE1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power point was made by: Brianna Kahler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ige Liebowi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1103400" y="798480"/>
            <a:ext cx="69008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take our fantastic quiz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rst part of our fantastic quiz is based on the key terms in chapter 3 section 5.Directions: match the key terms to their defini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e                      region of the Nile betwee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cata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Nubia      a worker skilled in making crafts 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per Nubia     minerals that are mined and used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me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san               region betwee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tarac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 N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 Napata kingdom known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ing writing        B. weak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itary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alibri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pyramids in           D. skilled which to bury their king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tte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was the Meroe kingdom known f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rning to make iron weapons and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ing a small isolated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d coronations of Nubian k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ing a weak army that recaptured Egyp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Meroe’s source of wealth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ing g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ing pott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ricultu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e hope you enjoyed our slide show and we hope you learned a lot about Napata and Meroe!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56:16Z</dcterms:created>
  <dc:creator>Wendy Kahler</dc:creator>
  <dc:description/>
  <dc:language>en-US</dc:language>
  <cp:lastModifiedBy>Wendy Kahler</cp:lastModifiedBy>
  <dcterms:modified xsi:type="dcterms:W3CDTF">2009-01-16T02:17:42Z</dcterms:modified>
  <cp:revision>11</cp:revision>
  <dc:subject/>
  <dc:title>Slide 1</dc:title>
</cp:coreProperties>
</file>